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197-8809-485D-B485-03BC26DD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131-2D1E-4723-BDF1-DC77E6D8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9C226-5748-4472-A95B-994BD03C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1C2A9-D6FF-4B31-ADE6-6C5FB24B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B42D1-7ACB-4838-AA05-D2C4DDCA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D6304-421C-4A01-A033-FA6F1D3A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B19A3-5766-4911-AABF-25339343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B7E71-BFB2-4369-9AB4-54A8748D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2D277-BF01-4F77-B0B7-738800F1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9A887-8777-4C7C-BFDF-78A16402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EBC3B-C189-4A14-9131-FD4AA3BB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CCF4A-BB24-44FA-96F2-80DF7C5D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F01-B527-4F88-8DA2-35A58BA3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EE38F-5D8C-40BA-8B81-4027AC5F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C66AF-F808-48E3-97E7-C40E9CB0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1D6C9-5BEE-480A-9F60-9E8D096B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10072-24B3-4994-8B7F-662AB5B0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453B8-DDD8-424D-B3B1-4CF7A2FC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341A2-24F5-448C-85AB-D74F7FC0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59F1A-6B1D-4397-86E3-6353FD78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F4163-2401-4DA7-A5D3-6CF232DC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FF848-B08D-4C71-A242-B0951780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0B66A-EE1F-48F4-95E6-A6ED9996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ABA-7DBD-4315-882E-E48C2F68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82A36-B524-4B2E-AF52-3474E4F6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482FC-5F15-44A0-901E-7632B062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AAE84-44D2-4319-8A35-C9B0CA2B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487D7-5C02-45CB-B2D0-93B85AAD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8AD4E-1D43-48C7-A97B-E8EA03C1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48C9F-D86F-4ABE-9ABC-426E184A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56EA7-3E9E-4AC1-810F-FED9EAFD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414CE-A47C-4FD7-8DD6-94EE7B45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5DD80-EA08-4294-9FD4-6201FEF7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76FAE-82AA-4426-B936-B2AD95C0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38DF-89AE-4D9B-A2A3-34F86393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695FD-D903-426E-BD0D-00D7367C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57224-34C7-4407-8707-4458B700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67C25-FA06-4BFD-AC2B-ECA5E2B6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459B1-950D-4B6E-B6B2-8CB744F7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2A56D-16DB-4508-ADA0-E6E16409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D7311-143A-46C3-9C17-BEFF60DE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10145-935F-4F54-91F4-0DA8ED68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B7C00-1D26-429B-8A24-B7E2556D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C6D6E-CCDB-4839-997C-67CF0A32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B608F-2C59-42D4-8BFC-234B23B1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16C2-E953-4F37-B4CD-BAA896C7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B2E76-90DE-4AA7-8336-90A399AB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5685C-62D9-4214-A8E4-CE8A7282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6399D-9D58-42A7-8A06-656A6261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5BC21-10DA-4B35-A192-8E4414FF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60CF2-D287-4B88-9C05-57FB4264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E285E-1060-4CBE-8D4C-C2EFB4C3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D11B21-81B0-4DB6-9E9F-B2696968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29A9A-CAB6-4E48-9146-781DA9EC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ECE0F-9852-435C-8899-96CE64DA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00157-AEB6-4541-8E71-76690C22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54FE-2EE3-42A6-ABAB-846553A7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7C366-24FB-4926-A9A8-C6239835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B802F-B05D-4B9A-A55D-CBC19F4B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A7084-4123-46EB-AF48-75277E59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7F6B5-C6BC-42CF-98E8-B2DCF8E4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E17C7-FD29-4430-B8FA-A186D4E2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87231-4DBC-436D-8651-EF2F62C2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3D903-AC13-45B5-A6AC-F0A59C1D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1B389-7274-4AEF-9418-26096AEB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069CFB-FFB9-45D4-A569-B0A0E320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D28B2-EDE8-47D2-8ECD-2DDD9F08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8C51-A23B-4FF3-B245-C55D756E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BC286-4717-423E-8BC4-C02E9FED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1C8A3-4915-44CC-A11A-39F6DE6C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BCD55-4590-4AF5-8B85-95295696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E3D7D-CC87-4FB8-B88A-5633DD4F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0EE04-899D-4739-9F43-7CF23E54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0CD658-0D9E-4A57-B7B2-3A0192ED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B9727-5A87-4576-BF40-43713D0C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78A20-6350-4AFE-9E8E-5C14E661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0B5B0-C950-410C-A972-29CADD20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BA4B8-EFAF-424D-B767-C580728B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E714-DBBA-42AF-9A29-A32D35C3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65626-AC06-46A2-A7C4-CB3D6292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0DE2B-0DB0-46A8-A97C-61F92E7C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8C95D-76AF-41B0-9283-A7221ECE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F6A02-881B-4214-816B-5C33AC86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41695-7EBA-4D23-8A19-A1247024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89D06-7968-4B88-B15D-6F3A4B1A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F827E-8A3A-48A2-BAF9-33C358AE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B77C1-81B7-4A33-8651-F722176F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7F69F-8106-4E83-822A-02DE9342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3B7F6-1710-41D9-9FA2-9C250F3F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4592-3718-45C3-B1CF-164372D7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A2D2C-834F-462F-A6F6-E9D1F404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D4B8E-70A9-470F-B54A-761C2D3A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886A5-E338-4FC0-AD01-0F4F585E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538E2-DB22-4F47-A05D-EFA51DC5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30803-D810-42AA-9144-A8807C73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902A6-5435-4F10-9488-372B97B6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F89747-C817-470B-8002-BAF3C19B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78196A-7118-4BAE-A6F3-55684947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8BE0C-6166-4384-8B3E-19E7482F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3A6228-FC02-4B31-80D6-0A98E8B2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817A-5E0F-4874-8A45-46DDAF1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5F9FC-7278-4627-841B-44DA0A5A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1C66E-4016-4635-B5F1-701E37CD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91246B-D6DB-4F14-9C0D-0844D22C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360DB9-B9C9-4D84-822E-617FD476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6C6AF4-F677-4985-83E9-B3F91613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9D995-336E-49B2-A6C3-406A74C8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3DF05E-68EA-4105-BD4E-A24C56EE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A0CBD6-CB06-4EB3-B361-7ADF004A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75DF8-18B9-48D2-9BAC-5BA322C4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8EAA20-6FB6-422E-9EB1-0B5031DB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860-FB46-495C-9DBC-1AF18138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39A8-7D8D-445A-8319-893ED682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BFF6C0-5357-4EC6-9ED0-FEDEDB5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C0CCD6-D1F5-494F-8109-45A2B081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62A047-4D02-4ADA-91B4-837F9671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3B3A7-349B-43DA-A30D-04FA8E87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73AC22-E4CF-4ED3-9D9D-1B79D3B8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E73DB9-1E1A-4876-849F-6404F036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B02A69-E737-4A89-B507-290F5A7A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41389-97C7-424B-A638-FB1A4A7C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E2D19-4B7C-41EC-9C90-B2ECFD27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6092C-F001-43FC-BD3B-E85B5D89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E8D2-AF0E-4637-8A20-17DA6B45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4CEBC-9214-463B-8FB8-C77879D6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D66036-23CA-45BA-B41D-571E8565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C1CA97-A052-4C79-867C-DFB2755E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FEDB17-903D-4B17-943C-B9972B6E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54F7A-9301-4CAA-A259-2EDAB9B0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DD134-8659-4B00-9F3F-2B4EAE23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D5ADF-F592-4685-8541-9BC3E0E1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31DAF7-FE8B-4344-90BC-AC72C3CC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01D956-7E3E-4516-A579-4E3CF609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CEAEBF-C20C-4CFE-862E-5927285F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3A74-7D1E-45A8-A722-697101CC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51966E-486B-4B15-BD1F-F6762D72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CD276-1E01-49D3-B206-8DE86C7D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70993-4FCB-47C9-AA7D-4EAFD628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D8B465-6677-487E-8788-C8C58CB0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2FF20-9FDF-4260-9753-8E8B4301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C252B2-72B9-46E4-B0CB-D71CD307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1FF8C-ED93-4FF5-ABB9-9390A488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D9F80-15EF-4B07-97C6-F665A306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DFBBFB-67F6-4BCA-9D9C-A4EB3AB4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0449B-2E19-43E8-8CE4-CBBA6654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CB3F-CC4D-4ACC-ADBB-21A34805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99E27E-6CDA-4036-9B83-2132272F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25FBD1-4DB8-489B-BEF1-418A92C7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5E259A-5230-4236-AD36-14BB9F6D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052834-842B-420D-9A7D-D343DB73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AAE21E-8C21-423A-8B6F-381593A5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B072F5-A30B-4DE7-8006-8F95A940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2D902E-D073-4817-B65B-7475269A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DCA29D-039B-4B93-BB0F-8C9F3B4C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C837EB-7F80-4AB5-97E6-82ADA60B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B97E1D-4D65-45CC-84DA-80FDDB97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783D-DCBF-47E5-8DD3-67C3370A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4C330D-F63A-4C24-A9C4-51D682D2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277BFD-F77F-48E9-A004-A14B5A89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D113B-86BA-4602-99DC-D6ADAF30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912D80-894D-4B95-B33C-7F77522D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ED5E63-49CC-4ABA-8745-49D55EC2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2B72E4-5EFD-4A77-A52C-7DDB6965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EA7D8A-474E-4B1C-9FBE-88E466B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EA8FBB-D306-42E9-8383-81C2057D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D71CDB-F718-4CAC-A897-329FE829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2A8EFB-4008-4460-8D5D-44C2F45C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19EDF-BEF1-4E67-87AA-72E9D419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8B2054-1730-4BB7-93C3-9DFC3A3F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1B2D01-52D4-48B2-9406-960CDCB3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8ED1EC-DC2D-4B9F-9904-2C9DF678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AD00-CA02-45F2-AFC5-C346CC6B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D4355-DC29-4722-A1CC-F061B88C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66F44-3A6A-40CF-91EC-36420DE3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668EA-D84E-454B-82B9-45E610AB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BE1-2C22-4FC3-A40C-928E4FE5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75916-0DD4-47EE-8E6E-0D41E9B1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A27C-BE2D-4348-A9BC-55932667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0BB6-51E0-4E80-B34C-01977670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7035-EBA8-4565-9166-8E9C001B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5B94-4FDC-4F76-AFBD-223CEF5E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9C590-670D-4179-8523-ED29A26F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42BD-E878-4B34-8C1E-0385A372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9EAF8-141D-4E35-AFE0-4FBB0A87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98BD3-065D-4F8A-B7C5-02EE1E66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4AE44-9FC9-4F72-BC80-1E34A53A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486-7D6B-41BE-A85C-BC45C15E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2BD3D-24DC-4C21-89A5-27A4355B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C27D-3EE6-480F-AED2-4445745A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3B964-C5A0-4127-84AF-6C9E65CD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38864-478B-415A-8E2A-B45A89D2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2D6E7-AAEB-4232-85F9-3955348C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9FAB4-88F1-4310-AB5A-074007F3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48A89-4F72-49A2-A885-4BA129DE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E5893-93A2-48FD-B42C-7D599A61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F6C35-7E2A-46DB-8397-A775A917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28272-A1DB-4504-9F3D-3AE03E95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0D8-9008-4BA4-BB24-FB3D2EA1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4F828-BE70-4851-A6E5-9DCF1AC7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C3929-C411-484E-B273-E79421BE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68578-6459-4E10-97CB-BDC0DD9D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004C8-44AF-425D-9161-2DF50082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F0EF6-FACF-4AA3-84CB-50291786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14CDC-9250-4919-B8CC-AF1B3880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9FBF1-F813-4108-85FE-2D84DE30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EEB32-1004-4963-A301-B4808A0E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4BC82-5206-4D3A-B11D-21D45EB2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BB979-04A1-4493-AF34-B72586B5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C47-77A7-420E-9198-EC4BA385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15E0E-31C2-434A-87D7-A96724EB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8DEF4-C5CB-45B0-B847-A0DEAC4F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7FC8C-366B-478F-805E-8B09641C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0B99C-466E-4948-84FC-50EBB877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47E26-471F-433C-8843-0D328346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38767-2C5C-405F-8995-7B247A1B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63163-4816-45F0-BF44-5DF64757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F49E0-DA14-4D01-B179-D96E1B36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30A81-CD3A-4CBE-95DA-9B72C1D2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65876-29C0-485B-B13A-ED183543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47C-D353-4048-A32C-B06CB626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3DCD0-9DDA-47F0-ABFD-AFB83DE9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32720-88DC-4DE5-B390-F2D28FA4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4518B-07FA-49D8-AE68-8F2B5523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AFACD-1062-4A0B-AB69-AC8217E6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39FB0-9389-4CFB-8F3C-BAC76BF5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EF078-2A0B-4A38-8EB1-36549E66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1E8B4-C486-4715-930D-127663E3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F8462-04C1-4BB9-BB4E-4B81BB1E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E4AC0-847B-4050-BFE2-867BB703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C790E-B699-4849-8E2C-A54B9D29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F65-FFAB-4BB8-A1B2-EDF20AE4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BB480-6AF4-4572-AED1-9E81AF28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69489-467B-491F-8AA9-06E0C614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850DB-31E8-4516-A329-5B5400C9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1EA3D-3E3E-4556-83D7-97D37DD2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8DD04-A21E-4456-886D-C8DC008B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A85E3-5357-4E67-BD1A-ABCE6220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02A38-5603-469B-A99F-26347815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4CD73-8DFC-4612-AF13-86E24824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8910E-0F3A-4807-90EB-F4CF4ACE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5CE46-7C2F-4364-AF00-23912B34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331-DB37-4A64-BD48-CA00FB4C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DF3D7-B45D-4B34-9F91-940ADD0E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20164-D6EF-4591-B159-5CD217CF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5FE55-3EB7-42FF-A6F0-37924981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C3DDE-718C-4554-927B-627B274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CEF79-2FD5-4DA2-8D2F-8764967D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1975B-7507-4865-BE69-9C486387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504B2-F45F-411F-9C85-329F0BBA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6E720-0690-43B2-B550-E6ED8E09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980D3-C55D-4689-9783-C5F6F129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8A99D-3A89-4C13-95BB-7093A2A8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0F3B-1159-4B20-A979-7261370462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7951-11F1-4FFB-82DD-E58E23EAE8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0132-893A-4297-985E-4224952365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8B4A-D513-44EB-A40F-736894741A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3CDA-602B-4114-AD64-DC6CBD68CA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52B8-B87B-4CF3-B4EF-09153EF17D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1BD6-009F-4010-B74E-9F0C4F7836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EC7A-C95A-4A20-A514-0AC8151577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DED7-00E0-495F-B481-9D51ECC56B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ACEF-2BE4-4450-96A3-1FD6408264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C6C7-0D2C-43B4-A778-D9492B6F97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6AE3-846B-4AAD-9B27-AA510E294B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0F39-3695-4B35-A526-D62818D0C1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BA0B-7E22-4BEE-B3BD-E781C7876C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833C-8C2B-4878-82D4-66E98693C7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0B1B-813F-42A1-9972-3234C88DA4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6E40-73C8-45A4-9AD5-6147376367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F21F-74AC-4610-8F43-52C73BCABF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7D56-D2B5-4802-B5D6-3A60308CF4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9A1B-3156-4638-83C4-F9FCAF66E0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0A50-53E7-4A75-9171-B656ADA29E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9522-FFF9-4B9D-A1DB-41E2592471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7689-CE69-489C-9A88-F585C6F933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FE26-7D49-4BDE-8F4D-A901AFBD53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5CD5-8487-4181-B791-1C6FD29DB4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1A39-D7AE-4F87-B914-A7A6AE4F07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012C-7C4A-47D4-9819-C9791FE603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A84F-6305-46F7-A0AF-33BC961016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AE24-717C-42D3-8D5C-117AC139DA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CDEE-32C7-4DF5-953A-8D81104C66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D19F-C6ED-4907-A101-B70EACA98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FBAD-8A20-4089-ADA3-5D75263712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1AB5-D60C-45FD-8F54-4485EE5E3C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2C91-C262-4883-ABAF-2F8A35490E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5BBB-EB3C-44C5-ABD4-C671EC136F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A4F3-0DC7-4879-BF64-1D0DE7F2D0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5240-E741-42D0-A008-C77D5327CA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B295-38B4-4E40-9A21-EB533AE6A3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3EC7-283A-4012-9273-C1F3B07A42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B94D-CC8A-4561-BCCC-FA75C2470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24240" y="3228840"/>
            <a:ext cx="429552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81080" y="981000"/>
            <a:ext cx="8781840" cy="4896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504800" y="157176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942840" y="1873080"/>
            <a:ext cx="1079640" cy="3193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971640" y="2251080"/>
            <a:ext cx="1079280" cy="2890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693960" y="15764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132000" y="1878120"/>
            <a:ext cx="107964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160800" y="2255760"/>
            <a:ext cx="1079280" cy="2890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499000" y="15638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292720" y="1878120"/>
            <a:ext cx="107964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321160" y="2255760"/>
            <a:ext cx="1079640" cy="2890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8029440" y="15764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7507440" y="1890720"/>
            <a:ext cx="1079280" cy="31896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60440" descr=""/>
          <p:cNvPicPr/>
          <p:nvPr/>
        </p:nvPicPr>
        <p:blipFill>
          <a:blip r:embed="rId13"/>
          <a:stretch/>
        </p:blipFill>
        <p:spPr>
          <a:xfrm>
            <a:off x="1438200" y="3203640"/>
            <a:ext cx="67341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519120" y="2324160"/>
            <a:ext cx="8105760" cy="22096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979640" y="3852720"/>
            <a:ext cx="136836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508720" y="304308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59413" descr=""/>
          <p:cNvPicPr/>
          <p:nvPr/>
        </p:nvPicPr>
        <p:blipFill>
          <a:blip r:embed="rId4"/>
          <a:stretch/>
        </p:blipFill>
        <p:spPr>
          <a:xfrm>
            <a:off x="1189080" y="3454560"/>
            <a:ext cx="1628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243000" y="1300320"/>
            <a:ext cx="8658000" cy="42573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2581200" y="213372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2568600" y="256536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2576520" y="298440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2563920" y="341640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6"/>
          <a:stretch/>
        </p:blipFill>
        <p:spPr>
          <a:xfrm>
            <a:off x="6478560" y="213372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7"/>
          <a:stretch/>
        </p:blipFill>
        <p:spPr>
          <a:xfrm>
            <a:off x="6465960" y="256536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8"/>
          <a:stretch/>
        </p:blipFill>
        <p:spPr>
          <a:xfrm>
            <a:off x="6473880" y="298440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9"/>
          <a:stretch/>
        </p:blipFill>
        <p:spPr>
          <a:xfrm>
            <a:off x="6461280" y="340344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0"/>
          <a:stretch/>
        </p:blipFill>
        <p:spPr>
          <a:xfrm>
            <a:off x="6156360" y="400536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1"/>
          <a:stretch/>
        </p:blipFill>
        <p:spPr>
          <a:xfrm>
            <a:off x="5076720" y="436572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2"/>
          <a:stretch/>
        </p:blipFill>
        <p:spPr>
          <a:xfrm>
            <a:off x="5076720" y="469908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3"/>
          <a:stretch/>
        </p:blipFill>
        <p:spPr>
          <a:xfrm>
            <a:off x="5076720" y="501336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4"/>
          <a:stretch/>
        </p:blipFill>
        <p:spPr>
          <a:xfrm>
            <a:off x="8362800" y="2421000"/>
            <a:ext cx="287640" cy="318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5"/>
          <a:stretch/>
        </p:blipFill>
        <p:spPr>
          <a:xfrm>
            <a:off x="8375760" y="280656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6"/>
          <a:stretch/>
        </p:blipFill>
        <p:spPr>
          <a:xfrm>
            <a:off x="8388360" y="321300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7"/>
          <a:stretch/>
        </p:blipFill>
        <p:spPr>
          <a:xfrm>
            <a:off x="8375760" y="357336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8"/>
          <a:stretch/>
        </p:blipFill>
        <p:spPr>
          <a:xfrm>
            <a:off x="8388360" y="393372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9"/>
          <a:stretch/>
        </p:blipFill>
        <p:spPr>
          <a:xfrm>
            <a:off x="8375760" y="436572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0"/>
          <a:stretch/>
        </p:blipFill>
        <p:spPr>
          <a:xfrm>
            <a:off x="8362800" y="467820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1"/>
          <a:stretch/>
        </p:blipFill>
        <p:spPr>
          <a:xfrm>
            <a:off x="8388360" y="5097600"/>
            <a:ext cx="287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8:1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